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49.jpeg" ContentType="image/jpeg"/>
  <Override PartName="/ppt/media/image85.gif" ContentType="image/gif"/>
  <Override PartName="/ppt/media/image48.jpeg" ContentType="image/jpeg"/>
  <Override PartName="/ppt/media/image7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gif" ContentType="image/gif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53.jpeg" ContentType="image/jpeg"/>
  <Override PartName="/ppt/media/image10.gif" ContentType="image/gif"/>
  <Override PartName="/ppt/media/image107.gif" ContentType="image/gif"/>
  <Override PartName="/ppt/media/image12.jpeg" ContentType="image/jpeg"/>
  <Override PartName="/ppt/media/image29.jpeg" ContentType="image/jpeg"/>
  <Override PartName="/ppt/media/image8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26.png" ContentType="image/pn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2.png" ContentType="image/png"/>
  <Override PartName="/ppt/media/image95.jpeg" ContentType="image/jpeg"/>
  <Override PartName="/ppt/media/image50.jpeg" ContentType="image/jpeg"/>
  <Override PartName="/ppt/media/image27.jpeg" ContentType="image/jpeg"/>
  <Override PartName="/ppt/media/image86.jpeg" ContentType="image/jpeg"/>
  <Override PartName="/ppt/media/image5.jpeg" ContentType="image/jpeg"/>
  <Override PartName="/ppt/media/image61.png" ContentType="image/png"/>
  <Override PartName="/ppt/media/image4.jpeg" ContentType="image/jpeg"/>
  <Override PartName="/ppt/media/image32.png" ContentType="image/png"/>
  <Override PartName="/ppt/media/image93.jpeg" ContentType="image/jpeg"/>
  <Override PartName="/ppt/media/image25.jpeg" ContentType="image/jpeg"/>
  <Override PartName="/ppt/media/image84.jpeg" ContentType="image/jpeg"/>
  <Override PartName="/ppt/media/image94.gif" ContentType="image/gif"/>
  <Override PartName="/ppt/media/image90.gif" ContentType="image/gif"/>
  <Override PartName="/ppt/media/image63.jpeg" ContentType="image/jpeg"/>
  <Override PartName="/ppt/media/image65.jpeg" ContentType="image/jpeg"/>
  <Override PartName="/ppt/media/image67.jpeg" ContentType="image/jpeg"/>
  <Override PartName="/ppt/media/image92.jpeg" ContentType="image/jpeg"/>
  <Override PartName="/ppt/media/image109.gif" ContentType="image/gif"/>
  <Override PartName="/ppt/media/image68.jpeg" ContentType="image/jpeg"/>
  <Override PartName="/ppt/media/image69.jpeg" ContentType="image/jpeg"/>
  <Override PartName="/ppt/media/image71.jpeg" ContentType="image/jpeg"/>
  <Override PartName="/ppt/media/image73.jpeg" ContentType="image/jpeg"/>
  <Override PartName="/ppt/media/image74.jpeg" ContentType="image/jpeg"/>
  <Override PartName="/ppt/media/image106.gif" ContentType="image/gif"/>
  <Override PartName="/ppt/media/image77.jpeg" ContentType="image/jpeg"/>
  <Override PartName="/ppt/media/image60.jpeg" ContentType="image/jpeg"/>
  <Override PartName="/ppt/media/image3.jpeg" ContentType="image/jpeg"/>
  <Override PartName="/ppt/media/image15.jpeg" ContentType="image/jpeg"/>
  <Override PartName="/ppt/media/image108.png" ContentType="image/png"/>
  <Override PartName="/ppt/media/image105.gif" ContentType="image/gif"/>
  <Override PartName="/ppt/media/image14.jpeg" ContentType="image/jpeg"/>
  <Override PartName="/ppt/media/image70.jpeg" ContentType="image/jpeg"/>
  <Override PartName="/ppt/media/image99.jpeg" ContentType="image/jpeg"/>
  <Override PartName="/ppt/media/image98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96.jpeg" ContentType="image/jpeg"/>
  <Override PartName="/ppt/media/image76.jpeg" ContentType="image/jpeg"/>
  <Override PartName="/ppt/media/image91.jpeg" ContentType="image/jpeg"/>
  <Override PartName="/ppt/media/image39.png" ContentType="image/png"/>
  <Override PartName="/ppt/media/image64.jpeg" ContentType="image/jpeg"/>
  <Override PartName="/ppt/media/image75.jpeg" ContentType="image/jpeg"/>
  <Override PartName="/ppt/media/image62.jpeg" ContentType="image/jpeg"/>
  <Override PartName="/ppt/media/image79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03.gif" ContentType="image/gif"/>
  <Override PartName="/ppt/media/image16.jpeg" ContentType="image/jpeg"/>
  <Override PartName="/ppt/media/image41.jpeg" ContentType="image/jpeg"/>
  <Override PartName="/ppt/media/image66.png" ContentType="image/png"/>
  <Override PartName="/ppt/media/image72.gif" ContentType="image/gif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57.png" ContentType="image/png"/>
  <Override PartName="/ppt/media/image37.jpeg" ContentType="image/jpeg"/>
  <Override PartName="/ppt/media/image20.png" ContentType="image/png"/>
  <Override PartName="/ppt/media/image36.jpeg" ContentType="image/jpeg"/>
  <Override PartName="/ppt/media/image104.gif" ContentType="image/gif"/>
  <Override PartName="/ppt/media/image24.jpeg" ContentType="image/jpeg"/>
  <Override PartName="/ppt/media/image8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0A98-23A6-4455-A7D0-25832986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CF5B-965B-4D27-91FF-A51181D4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AD8-BE8B-4C41-8DEA-3415FD36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41D9-97D7-4ECE-AB05-BB9E72A5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43A3-5030-4070-B541-E3FE15F7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C6B1-BB30-4B97-AF3A-8E309179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232D-CBDA-45FE-B811-CFE98642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F033-088E-401B-ACC8-2E5CA243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4DC8-B3AA-4DE0-BDF8-0D016E59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4B04-DEE9-4AB3-97A5-BB477978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C004-B918-410C-AF61-B42F77B4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F2E8-8E50-4C0A-981D-F4A01883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CE0B-302D-4976-8B05-60E651DE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4F25-7FDB-416E-A1FB-8C4F76EC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14A8-0A7F-4E04-95CC-0B6CBCAA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416F-0F0E-4420-B632-C219A39C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E534-EE22-447A-BD55-A039A25A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7EA-3C15-4CDF-AC70-887DE586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69B-34B6-4130-B59E-B46BB83D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5097-D8D0-49E5-BD30-E178CD2A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9DE8-1D2C-4A8F-BA1D-9605270D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8B0-F852-43EA-B00E-E55A6EB7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EE1-D238-4113-9FCD-5C21C084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91A-5E50-463A-9A57-892CDF9C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9F89-2143-4EB6-81B3-0C35EB54B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023D-F9A0-420B-A22A-8A9C2CB58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5.gif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0.gif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4.gif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4.gif"/><Relationship Id="rId2" Type="http://schemas.openxmlformats.org/officeDocument/2006/relationships/image" Target="../media/image105.gif"/><Relationship Id="rId3" Type="http://schemas.openxmlformats.org/officeDocument/2006/relationships/image" Target="../media/image106.gif"/><Relationship Id="rId4" Type="http://schemas.openxmlformats.org/officeDocument/2006/relationships/image" Target="../media/image107.gif"/><Relationship Id="rId5" Type="http://schemas.openxmlformats.org/officeDocument/2006/relationships/image" Target="../media/image108.png"/><Relationship Id="rId6" Type="http://schemas.openxmlformats.org/officeDocument/2006/relationships/image" Target="../media/image109.gif"/><Relationship Id="rId7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zooschool.ru/attach/img/1088.jpg" TargetMode="External"/><Relationship Id="rId2" Type="http://schemas.openxmlformats.org/officeDocument/2006/relationships/hyperlink" Target="http://www.smachno.ua/img/forall/a/126/66.jpg" TargetMode="External"/><Relationship Id="rId3" Type="http://schemas.openxmlformats.org/officeDocument/2006/relationships/hyperlink" Target="http://namonitore.ru/uploads/catalog/dikie/gepard_2_1280.jpg" TargetMode="External"/><Relationship Id="rId4" Type="http://schemas.openxmlformats.org/officeDocument/2006/relationships/hyperlink" Target="http://img0.liveinternet.ru/images/attach/c/2//69/270/69270037_2043.jpg" TargetMode="External"/><Relationship Id="rId5" Type="http://schemas.openxmlformats.org/officeDocument/2006/relationships/hyperlink" Target="http://altay-hunting.com/files/upload/&#1079;&#1072;&#1103;&#1094;.jpg" TargetMode="External"/><Relationship Id="rId6" Type="http://schemas.openxmlformats.org/officeDocument/2006/relationships/hyperlink" Target="http://zooh.narod.ru/_chimpanzee.jpg" TargetMode="Externa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b5fba512-f820-4ee9-b488-a65a94ca9cfa/%5BBI7ZD_13-05%5D_%5BIL_02%5D-k.jpg" TargetMode="External"/><Relationship Id="rId2" Type="http://schemas.openxmlformats.org/officeDocument/2006/relationships/hyperlink" Target="http://vse-pro-vseh.info/uploads/thumbnails/201212/p17fo1s8k7ojnu3li2s2lps841_100x100.jpg" TargetMode="External"/><Relationship Id="rId3" Type="http://schemas.openxmlformats.org/officeDocument/2006/relationships/hyperlink" Target="http://900igr.net/datai/o-zhivotnykh/Avstralija-2.files/0010-015-Utkonos.jpg" TargetMode="External"/><Relationship Id="rId4" Type="http://schemas.openxmlformats.org/officeDocument/2006/relationships/hyperlink" Target="http://900igr.net/datai/o-zhivotnykh/Avstralija-2.files/0010-015-Utkonos.jpg" TargetMode="External"/><Relationship Id="rId5" Type="http://schemas.openxmlformats.org/officeDocument/2006/relationships/hyperlink" Target="http://dl.ziza.es/upload//image/102012/25/animales_raros_alcyon/animales_raros%20%2833%29.jpg" TargetMode="External"/><Relationship Id="rId6" Type="http://schemas.openxmlformats.org/officeDocument/2006/relationships/hyperlink" Target="http://dic.academic.ru/pictures/enc_biology/animals/ris._6_16.jpg" TargetMode="External"/><Relationship Id="rId7" Type="http://schemas.openxmlformats.org/officeDocument/2006/relationships/hyperlink" Target="http://uwd.ru/uploads/posts/2012-11/1352012724_mimimi_dna_0_001.jpg" TargetMode="External"/><Relationship Id="rId8" Type="http://schemas.openxmlformats.org/officeDocument/2006/relationships/hyperlink" Target="http://animalworld.com.ua/images/2009/October_09/Animal/Marsupiala/Marsupiala_7.jpg" TargetMode="External"/><Relationship Id="rId9" Type="http://schemas.openxmlformats.org/officeDocument/2006/relationships/hyperlink" Target="http://www.vokrugsveta.ru/img/ann/news/main//2011/06/28/12367.jpg" TargetMode="External"/><Relationship Id="rId10" Type="http://schemas.openxmlformats.org/officeDocument/2006/relationships/hyperlink" Target="http://lolanimals.ru/wp-content/gallery/kengaroo/kangaroo_in_pouch.jpg" TargetMode="External"/><Relationship Id="rId11" Type="http://schemas.openxmlformats.org/officeDocument/2006/relationships/hyperlink" Target="http://rudocs.exdat.com/pars_docs/tw_refs/284/283532/283532_html_m394f3427.jpg" TargetMode="External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7/74/Erinaceus_europaeus.jpg/800px-Erinaceus_europaeus.jpg" TargetMode="External"/><Relationship Id="rId2" Type="http://schemas.openxmlformats.org/officeDocument/2006/relationships/hyperlink" Target="http://animalbox.ru/wp-content/uploads/2011/02/vyhuhol2-300x219.jpg" TargetMode="External"/><Relationship Id="rId3" Type="http://schemas.openxmlformats.org/officeDocument/2006/relationships/hyperlink" Target="http://animalworld.com.ua/images/2009/upload/zemler.jpg" TargetMode="External"/><Relationship Id="rId4" Type="http://schemas.openxmlformats.org/officeDocument/2006/relationships/hyperlink" Target="http://mlekopitajuschie.ru/images/2012-02-17/krot_2.jpg" TargetMode="External"/><Relationship Id="rId5" Type="http://schemas.openxmlformats.org/officeDocument/2006/relationships/hyperlink" Target="http://proxy11.media.online.ua/uol/r3-280c953f56/4f1d290b1a45c.jpg" TargetMode="External"/><Relationship Id="rId6" Type="http://schemas.openxmlformats.org/officeDocument/2006/relationships/hyperlink" Target="http://dic.academic.ru/pictures/wiki/files/49/100px-Plecotus_auritus_01.jpg" TargetMode="External"/><Relationship Id="rId7" Type="http://schemas.openxmlformats.org/officeDocument/2006/relationships/hyperlink" Target="http://infa.ws/animal/images/2470.jpg" TargetMode="External"/><Relationship Id="rId8" Type="http://schemas.openxmlformats.org/officeDocument/2006/relationships/hyperlink" Target="http://www.zoogeo365.ru/images/public/20101122/nochnica_brandta_big.jpg" TargetMode="External"/><Relationship Id="rId9" Type="http://schemas.openxmlformats.org/officeDocument/2006/relationships/hyperlink" Target="http://skuky.net/wp-content/uploads/2009/08/flying-fox7.jpg" TargetMode="External"/><Relationship Id="rId10" Type="http://schemas.openxmlformats.org/officeDocument/2006/relationships/hyperlink" Target="http://img11.nnm.ru/0/7/5/9/7/66b925e322d26c1f6a552b01f4c.jpg" TargetMode="External"/><Relationship Id="rId11" Type="http://schemas.openxmlformats.org/officeDocument/2006/relationships/hyperlink" Target="http://upload.wikimedia.org/wikipedia/commons/thumb/a/a8/Streifenhoernchen.jpg/275px-Streifenhoernchen.jpg" TargetMode="External"/><Relationship Id="rId12" Type="http://schemas.openxmlformats.org/officeDocument/2006/relationships/hyperlink" Target="http://upload.wikimedia.org/wikipedia/commons/thumb/b/bd/Apodemus_sylvaticus_bosmuis.jpg/265px-Apodemus_sylvaticus_bosmuis.jpg" TargetMode="External"/><Relationship Id="rId13" Type="http://schemas.openxmlformats.org/officeDocument/2006/relationships/hyperlink" Target="http://animals-wild.ru/uploads/1299758699_1227745848_36.jpg" TargetMode="External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plants-and-animals.ru/images/photoalbum/album_6/bober_t2.jpg" TargetMode="External"/><Relationship Id="rId2" Type="http://schemas.openxmlformats.org/officeDocument/2006/relationships/hyperlink" Target="http://sobiratelzvezd.ru/wallpapers/wikimedia_23.jpg" TargetMode="External"/><Relationship Id="rId3" Type="http://schemas.openxmlformats.org/officeDocument/2006/relationships/hyperlink" Target="http://img-fotki.yandex.ru/get/3105/savinovserega.16/0_1da73_e33c2083_L.jpeg" TargetMode="External"/><Relationship Id="rId4" Type="http://schemas.openxmlformats.org/officeDocument/2006/relationships/hyperlink" Target="http://www.animalsglobe.ru/wp-content/uploads/2011/09/&#1082;&#1088;&#1086;&#1083;&#1080;&#1082;.jpg" TargetMode="External"/><Relationship Id="rId5" Type="http://schemas.openxmlformats.org/officeDocument/2006/relationships/hyperlink" Target="http://upload.wikimedia.org/wikipedia/commons/thumb/3/3b/Ochotona_princeps.jpg/275px-Ochotona_princeps.jpg" TargetMode="External"/><Relationship Id="rId6" Type="http://schemas.openxmlformats.org/officeDocument/2006/relationships/hyperlink" Target="http://sectorplus.ru/wp-content/uploads/2012/03/lisa1-300x221.jpg" TargetMode="External"/><Relationship Id="rId7" Type="http://schemas.openxmlformats.org/officeDocument/2006/relationships/hyperlink" Target="http://www.walland.ru/fotos/1270250139_29.jpg" TargetMode="External"/><Relationship Id="rId8" Type="http://schemas.openxmlformats.org/officeDocument/2006/relationships/hyperlink" Target="http://www.animalsglobe.ru/wp-content/uploads/2011/09/d0bfd0b0d0bdd182d0b5d180d0b0-2.jpg" TargetMode="External"/><Relationship Id="rId9" Type="http://schemas.openxmlformats.org/officeDocument/2006/relationships/hyperlink" Target="http://www.artzveri.ru/jivitniy_mir0952.jpg" TargetMode="External"/><Relationship Id="rId10" Type="http://schemas.openxmlformats.org/officeDocument/2006/relationships/hyperlink" Target="http://img3.nnm.ru/d/d/7/a/d/dd7ad41613bee8b945f98b1351341e60_full.jpg" TargetMode="External"/><Relationship Id="rId11" Type="http://schemas.openxmlformats.org/officeDocument/2006/relationships/hyperlink" Target="http://3.bp.blogspot.com/-7GzfkHgHKFo/T2m-QeNYpdI/AAAAAAAAEyk/t4vk4AtTIeI/s1600/&#1083;2.jpg" TargetMode="External"/><Relationship Id="rId12" Type="http://schemas.openxmlformats.org/officeDocument/2006/relationships/hyperlink" Target="http://www.zdjecia.biz.pl/zdjecia/duze/beagle-slodki-harrier.jpeg" TargetMode="External"/><Relationship Id="rId13" Type="http://schemas.openxmlformats.org/officeDocument/2006/relationships/hyperlink" Target="http://zateevo.ru/userfiles/image/Zveri_Dikie/Tigr/tigr_dikii01.jpg" TargetMode="External"/><Relationship Id="rId1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4.bp.blogspot.com/-eubZ7gLdGrY/T6vnqbW-xWI/AAAAAAAAFqA/223fZ4ntpd0/s1600/&#1083;&#1077;&#1074;.jpg" TargetMode="External"/><Relationship Id="rId2" Type="http://schemas.openxmlformats.org/officeDocument/2006/relationships/hyperlink" Target="http://upload.wikimedia.org/wikipedia/commons/thumb/6/68/Lynx_lynx_poing.jpg/275px-Lynx_lynx_poing.jpg" TargetMode="External"/><Relationship Id="rId3" Type="http://schemas.openxmlformats.org/officeDocument/2006/relationships/hyperlink" Target="http://hakasiya.rgo.ru/files/2010/09/bars-300x225.jpg" TargetMode="External"/><Relationship Id="rId4" Type="http://schemas.openxmlformats.org/officeDocument/2006/relationships/hyperlink" Target="http://upload.wikimedia.org/wikipedia/commons/thumb/8/82/Medved_mzoo.jpg/220px-Medved_mzoo.jpg" TargetMode="External"/><Relationship Id="rId5" Type="http://schemas.openxmlformats.org/officeDocument/2006/relationships/hyperlink" Target="http://oboxote.ru/wp-content/uploads/2011/03/057.jpg" TargetMode="External"/><Relationship Id="rId6" Type="http://schemas.openxmlformats.org/officeDocument/2006/relationships/hyperlink" Target="http://www.tigerworld.ru/images/med/med3.jpg" TargetMode="External"/><Relationship Id="rId7" Type="http://schemas.openxmlformats.org/officeDocument/2006/relationships/hyperlink" Target="http://zoofayna.ru/wp-content/uploads/2011/06/kunica_lesnaya.jpg" TargetMode="External"/><Relationship Id="rId8" Type="http://schemas.openxmlformats.org/officeDocument/2006/relationships/hyperlink" Target="http://www.all-about-pets.ru/uploads/posts/1305878419_bolshaya.png" TargetMode="External"/><Relationship Id="rId9" Type="http://schemas.openxmlformats.org/officeDocument/2006/relationships/hyperlink" Target="http://vikipendia.ru/wp-content/uploads/2013/02/Udivitelnoe-chudo-prirody-norka-Chast-1-4.jpg" TargetMode="External"/><Relationship Id="rId10" Type="http://schemas.openxmlformats.org/officeDocument/2006/relationships/hyperlink" Target="http://upload.wikimedia.org/wikipedia/commons/thumb/e/e3/Mustela_nivalis_-British_Wildlife_Centre-4.jpg/275px-Mustela_nivalis_-British_Wildlife_Centre-4.jpg" TargetMode="External"/><Relationship Id="rId11" Type="http://schemas.openxmlformats.org/officeDocument/2006/relationships/hyperlink" Target="http://tyulen-foto.narod.ru/tyulen-foto/grenlandskiy-tyulen-foto01.jpg" TargetMode="External"/><Relationship Id="rId12" Type="http://schemas.openxmlformats.org/officeDocument/2006/relationships/hyperlink" Target="http://photo-day.ru/wp-content/uploads/2010/04/ba-APTOPIX_Germa_0501431861.jpg" TargetMode="External"/><Relationship Id="rId1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aminpro.narod.ru/dopoln/kartinki/dopol/givotnye/morg_01.jpg" TargetMode="External"/><Relationship Id="rId2" Type="http://schemas.openxmlformats.org/officeDocument/2006/relationships/hyperlink" Target="http://doseng.org/uploads/posts/2008-05/1210592606_morskie-kotiki_8194_s__1.jpg" TargetMode="External"/><Relationship Id="rId3" Type="http://schemas.openxmlformats.org/officeDocument/2006/relationships/hyperlink" Target="http://media.tumblr.com/8668480f47978db24b7105c73bc36193/tumblr_inline_mi01amfBIh1qz4rgp.jpg" TargetMode="External"/><Relationship Id="rId4" Type="http://schemas.openxmlformats.org/officeDocument/2006/relationships/hyperlink" Target="http://www.ebio.ru/images/06071102.jpg" TargetMode="External"/><Relationship Id="rId5" Type="http://schemas.openxmlformats.org/officeDocument/2006/relationships/hyperlink" Target="http://mostinfo.su/most/sinij-kit.jpg" TargetMode="External"/><Relationship Id="rId6" Type="http://schemas.openxmlformats.org/officeDocument/2006/relationships/hyperlink" Target="http://flot.com/upload/blog/7cc//2_1_~1.JPG" TargetMode="External"/><Relationship Id="rId7" Type="http://schemas.openxmlformats.org/officeDocument/2006/relationships/hyperlink" Target="http://animalbox.ru/wp-content/uploads/2012/03/kashalot.jpg" TargetMode="External"/><Relationship Id="rId8" Type="http://schemas.openxmlformats.org/officeDocument/2006/relationships/hyperlink" Target="http://daler.ru/pictures/1/1600x1200/Kasatka-3527.jpg" TargetMode="External"/><Relationship Id="rId9" Type="http://schemas.openxmlformats.org/officeDocument/2006/relationships/hyperlink" Target="http://gusevale1.narod.ru/geludok.gif" TargetMode="External"/><Relationship Id="rId10" Type="http://schemas.openxmlformats.org/officeDocument/2006/relationships/hyperlink" Target="http://supple.image.newsru.com/images/big/92_70_927051_1187604408.jpg" TargetMode="External"/><Relationship Id="rId11" Type="http://schemas.openxmlformats.org/officeDocument/2006/relationships/hyperlink" Target="http://www.symbolsbook.ru/images/O/Deer.jpg" TargetMode="External"/><Relationship Id="rId12" Type="http://schemas.openxmlformats.org/officeDocument/2006/relationships/hyperlink" Target="http://www.dangeranimals.ru/wp-content/uploads/2010/09/&#1050;&#1072;&#1073;&#1072;&#1085;-2.jpg" TargetMode="External"/><Relationship Id="rId13" Type="http://schemas.openxmlformats.org/officeDocument/2006/relationships/hyperlink" Target="http://www.kartinki24.ru/uploads/gallery/main/40/kartinki24ru_begemot_07.jpg" TargetMode="External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scientificrussia.ru/data/shared/top_10/10_faktov_sbornik/HDpics_ru_d2247368_2274.jpg" TargetMode="External"/><Relationship Id="rId2" Type="http://schemas.openxmlformats.org/officeDocument/2006/relationships/hyperlink" Target="http://upload.wikimedia.org/wikipedia/commons/thumb/7/7b/Donkey_1_arp_750px.jpg/275px-Donkey_1_arp_750px.jpg" TargetMode="External"/><Relationship Id="rId3" Type="http://schemas.openxmlformats.org/officeDocument/2006/relationships/hyperlink" Target="http://www.zoomagazin.info/images/245953908_818116d6b3.jpg" TargetMode="External"/><Relationship Id="rId4" Type="http://schemas.openxmlformats.org/officeDocument/2006/relationships/hyperlink" Target="http://zoo-farm.ru/wp-content/uploads/2012/07/pokupka-loshadi-kak-ne-oshibitsya.jpg" TargetMode="External"/><Relationship Id="rId5" Type="http://schemas.openxmlformats.org/officeDocument/2006/relationships/hyperlink" Target="http://usiter.com/uploads/20120528/nosorog+55664695280.jpg" TargetMode="External"/><Relationship Id="rId6" Type="http://schemas.openxmlformats.org/officeDocument/2006/relationships/hyperlink" Target="http://zateevo.ru/userfiles/image/Zveri_Dikie/Slony/Slon4.jpg" TargetMode="External"/><Relationship Id="rId7" Type="http://schemas.openxmlformats.org/officeDocument/2006/relationships/hyperlink" Target="http://upload.wikimedia.org/wikipedia/commons/thumb/9/96/200407_Elephant_9.JPG/265px-200407_Elephant_9.JPG" TargetMode="External"/><Relationship Id="rId8" Type="http://schemas.openxmlformats.org/officeDocument/2006/relationships/hyperlink" Target="http://upload.wikimedia.org/wikipedia/commons/thumb/f/f3/Loxodontacyclotis.jpg/275px-Loxodontacyclotis.jpg" TargetMode="External"/><Relationship Id="rId9" Type="http://schemas.openxmlformats.org/officeDocument/2006/relationships/hyperlink" Target="http://cwer.ws/files/u165477/0802/primates2.jpg" TargetMode="External"/><Relationship Id="rId10" Type="http://schemas.openxmlformats.org/officeDocument/2006/relationships/hyperlink" Target="http://terramia.ru/wp-content/uploads/2013/01/makaki1.jpg" TargetMode="External"/><Relationship Id="rId11" Type="http://schemas.openxmlformats.org/officeDocument/2006/relationships/hyperlink" Target="http://like-zoo.com/data/animals/normal/zm1_0.jpg" TargetMode="External"/><Relationship Id="rId1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50/275px-Papio_hamadryas_-_02.jpg" TargetMode="External"/><Relationship Id="rId2" Type="http://schemas.openxmlformats.org/officeDocument/2006/relationships/hyperlink" Target="http://upload.wikimedia.org/wikipedia/commons/thumb/8/82/Proboscis_Monkey.jpg/275px-Proboscis_Monkey.jpg" TargetMode="External"/><Relationship Id="rId3" Type="http://schemas.openxmlformats.org/officeDocument/2006/relationships/hyperlink" Target="http://upload.wikimedia.org/wikipedia/commons/5/50/Male_gorilla_in_SF_zoo.jpg" TargetMode="External"/><Relationship Id="rId4" Type="http://schemas.openxmlformats.org/officeDocument/2006/relationships/hyperlink" Target="http://t3.gstatic.com/images?q=tbn:ANd9GcQM5Y1lgpo0DQnmmDnaFM3kf9R5DNLq9ItrmhVXr9mrhGbxc4jgjg" TargetMode="External"/><Relationship Id="rId5" Type="http://schemas.openxmlformats.org/officeDocument/2006/relationships/hyperlink" Target="http://world.fedpress.ru/sites/fedpress/files/didenko/news/shimpanze.jpg" TargetMode="External"/><Relationship Id="rId6" Type="http://schemas.openxmlformats.org/officeDocument/2006/relationships/hyperlink" Target="http://s10.rimg.info/1de658c82606f42751f1f255643eb47a.gif" TargetMode="External"/><Relationship Id="rId7" Type="http://schemas.openxmlformats.org/officeDocument/2006/relationships/hyperlink" Target="http://s7.rimg.info/f880633ce885ee5037951e532996cb5b.gif" TargetMode="External"/><Relationship Id="rId8" Type="http://schemas.openxmlformats.org/officeDocument/2006/relationships/hyperlink" Target="http://s19.rimg.info/7e9b7a8f3211455adefe41b7983f408c.gif" TargetMode="External"/><Relationship Id="rId9" Type="http://schemas.openxmlformats.org/officeDocument/2006/relationships/hyperlink" Target="http://s10.rimg.info/aabd5b7a70c8aaebd5ee7e2f828c11dc.gif" TargetMode="External"/><Relationship Id="rId10" Type="http://schemas.openxmlformats.org/officeDocument/2006/relationships/hyperlink" Target="http://s17.rimg.info/24ff25697f1000eecaf71d819965babe.gif" TargetMode="External"/><Relationship Id="rId11" Type="http://schemas.openxmlformats.org/officeDocument/2006/relationships/hyperlink" Target="http://s19.rimg.info/208057ff530477dbd79a77cb8af3160e.gif" TargetMode="External"/><Relationship Id="rId12" Type="http://schemas.openxmlformats.org/officeDocument/2006/relationships/hyperlink" Target="http://s8.rimg.info/a699dc3fbe3bf8688b00378ab5fd5738.gif" TargetMode="External"/><Relationship Id="rId1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s10.rimg.info/d40371fc3fce76d21d2aaa6e92f6ef0d.gif" TargetMode="External"/><Relationship Id="rId2" Type="http://schemas.openxmlformats.org/officeDocument/2006/relationships/hyperlink" Target="http://s3.rimg.info/e75bb3de4182f6167349a4ddbd27856b.gif" TargetMode="External"/><Relationship Id="rId3" Type="http://schemas.openxmlformats.org/officeDocument/2006/relationships/hyperlink" Target="http://s10.rimg.info/792914d6f68fa4c9fd3c3b05a01b9f61.gif" TargetMode="External"/><Relationship Id="rId4" Type="http://schemas.openxmlformats.org/officeDocument/2006/relationships/hyperlink" Target="http://s10.rimg.info/aac3515762e6fc22f1ceb1fdd2f1a50b.gif" TargetMode="External"/><Relationship Id="rId5" Type="http://schemas.openxmlformats.org/officeDocument/2006/relationships/hyperlink" Target="http://s10.rimg.info/b07ec85a9da69db2e4eb0f44f143eba3.gif" TargetMode="External"/><Relationship Id="rId6" Type="http://schemas.openxmlformats.org/officeDocument/2006/relationships/hyperlink" Target="http://s10.rimg.info/7b165bdda301ca97337d0df9050ba4cb.gif" TargetMode="External"/><Relationship Id="rId7" Type="http://schemas.openxmlformats.org/officeDocument/2006/relationships/hyperlink" Target="http://s3.rimg.info/da32bd4cb19fd46fbe9a39a3bdb63cd0.gif" TargetMode="External"/><Relationship Id="rId8" Type="http://schemas.openxmlformats.org/officeDocument/2006/relationships/hyperlink" Target="http://s19.rimg.info/9f51342b1501283793f8775a0515252d.gif" TargetMode="External"/><Relationship Id="rId9" Type="http://schemas.openxmlformats.org/officeDocument/2006/relationships/hyperlink" Target="http://s18.rimg.info/14e5bf1b762ea70b81b966c6cb4f715b.gif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306828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Отряды млекопитающих</a:t>
            </a:r>
            <a:endParaRPr b="1" i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3" name="Рисунок 11" descr="1088.jpg"/>
          <p:cNvPicPr/>
          <p:nvPr/>
        </p:nvPicPr>
        <p:blipFill>
          <a:blip r:embed="rId1"/>
          <a:stretch/>
        </p:blipFill>
        <p:spPr>
          <a:xfrm>
            <a:off x="0" y="0"/>
            <a:ext cx="2771640" cy="2492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2" descr="66.jpg"/>
          <p:cNvPicPr/>
          <p:nvPr/>
        </p:nvPicPr>
        <p:blipFill>
          <a:blip r:embed="rId2"/>
          <a:stretch/>
        </p:blipFill>
        <p:spPr>
          <a:xfrm>
            <a:off x="2700360" y="0"/>
            <a:ext cx="3166920" cy="2475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3" descr="gepard_2_1280.jpg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4494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69270037_2043.jpg"/>
          <p:cNvPicPr/>
          <p:nvPr/>
        </p:nvPicPr>
        <p:blipFill>
          <a:blip r:embed="rId4"/>
          <a:stretch/>
        </p:blipFill>
        <p:spPr>
          <a:xfrm>
            <a:off x="7164360" y="2421000"/>
            <a:ext cx="1979640" cy="3076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11"/>
          <p:cNvSpPr/>
          <p:nvPr/>
        </p:nvSpPr>
        <p:spPr>
          <a:xfrm>
            <a:off x="3492360" y="566100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арова  Наталья  Анатольевна,  учитель биологии МБОУ СОШ №207 г.Новосиби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12" descr="заяц.jpg"/>
          <p:cNvPicPr/>
          <p:nvPr/>
        </p:nvPicPr>
        <p:blipFill>
          <a:blip r:embed="rId5"/>
          <a:stretch/>
        </p:blipFill>
        <p:spPr>
          <a:xfrm>
            <a:off x="0" y="4873680"/>
            <a:ext cx="3419640" cy="1984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3" descr="_chimpanzee.jpg"/>
          <p:cNvPicPr/>
          <p:nvPr/>
        </p:nvPicPr>
        <p:blipFill>
          <a:blip r:embed="rId6"/>
          <a:stretch/>
        </p:blipFill>
        <p:spPr>
          <a:xfrm>
            <a:off x="0" y="2205000"/>
            <a:ext cx="2050920" cy="28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Грызуны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85880" y="150012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, под землей, в пресных водоема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ы резцы, покрыты эмалью, стачиваются и расту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ный тонкий или уплощенный хвос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сокая плодовитост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ный кишечни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7" name="Рисунок 3" descr="24ff25697f1000eecaf71d819965babe.gif"/>
          <p:cNvPicPr/>
          <p:nvPr/>
        </p:nvPicPr>
        <p:blipFill>
          <a:blip r:embed="rId1"/>
          <a:stretch/>
        </p:blipFill>
        <p:spPr>
          <a:xfrm>
            <a:off x="6929280" y="0"/>
            <a:ext cx="1486080" cy="15620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index.jpg"/>
          <p:cNvPicPr/>
          <p:nvPr/>
        </p:nvPicPr>
        <p:blipFill>
          <a:blip r:embed="rId2"/>
          <a:stretch/>
        </p:blipFill>
        <p:spPr>
          <a:xfrm>
            <a:off x="1258920" y="4905360"/>
            <a:ext cx="2881440" cy="19526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275px-Streifenhoernchen.jpg"/>
          <p:cNvPicPr/>
          <p:nvPr/>
        </p:nvPicPr>
        <p:blipFill>
          <a:blip r:embed="rId3"/>
          <a:stretch/>
        </p:blipFill>
        <p:spPr>
          <a:xfrm>
            <a:off x="5435640" y="3943440"/>
            <a:ext cx="2736720" cy="291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Грызунов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1" name="Содержимое 5" descr="index.jpg"/>
          <p:cNvPicPr/>
          <p:nvPr/>
        </p:nvPicPr>
        <p:blipFill>
          <a:blip r:embed="rId1"/>
          <a:stretch/>
        </p:blipFill>
        <p:spPr>
          <a:xfrm>
            <a:off x="0" y="1071720"/>
            <a:ext cx="4357800" cy="27860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6" descr="images.jpg"/>
          <p:cNvPicPr/>
          <p:nvPr/>
        </p:nvPicPr>
        <p:blipFill>
          <a:blip r:embed="rId2"/>
          <a:stretch/>
        </p:blipFill>
        <p:spPr>
          <a:xfrm>
            <a:off x="4714920" y="1071720"/>
            <a:ext cx="442908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7" descr="images.jpg"/>
          <p:cNvPicPr/>
          <p:nvPr/>
        </p:nvPicPr>
        <p:blipFill>
          <a:blip r:embed="rId3"/>
          <a:stretch/>
        </p:blipFill>
        <p:spPr>
          <a:xfrm>
            <a:off x="4714920" y="3952800"/>
            <a:ext cx="4429080" cy="29052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images.jpg"/>
          <p:cNvPicPr/>
          <p:nvPr/>
        </p:nvPicPr>
        <p:blipFill>
          <a:blip r:embed="rId4"/>
          <a:stretch/>
        </p:blipFill>
        <p:spPr>
          <a:xfrm>
            <a:off x="0" y="3917880"/>
            <a:ext cx="4357800" cy="29401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4714920" y="1143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нда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0" y="1125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сная мыш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0" y="39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об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4716360" y="4005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ел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Зайцеобраз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1424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ы резцы: малые и крупные. Покрыты эмал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1" name="Рисунок 3" descr="208057ff530477dbd79a77cb8af3160e.gif"/>
          <p:cNvPicPr/>
          <p:nvPr/>
        </p:nvPicPr>
        <p:blipFill>
          <a:blip r:embed="rId1"/>
          <a:stretch/>
        </p:blipFill>
        <p:spPr>
          <a:xfrm>
            <a:off x="7500960" y="214200"/>
            <a:ext cx="1285920" cy="12286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275px-Arctic_Hare.jpg"/>
          <p:cNvPicPr/>
          <p:nvPr/>
        </p:nvPicPr>
        <p:blipFill>
          <a:blip r:embed="rId2"/>
          <a:stretch/>
        </p:blipFill>
        <p:spPr>
          <a:xfrm>
            <a:off x="142920" y="2428920"/>
            <a:ext cx="3908520" cy="26431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275px-Ochotona_princeps.jpg"/>
          <p:cNvPicPr/>
          <p:nvPr/>
        </p:nvPicPr>
        <p:blipFill>
          <a:blip r:embed="rId3"/>
          <a:stretch/>
        </p:blipFill>
        <p:spPr>
          <a:xfrm>
            <a:off x="2987640" y="4143240"/>
            <a:ext cx="3357720" cy="27147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3000240" y="40006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ищ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1785960" y="242892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я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Рисунок 10" descr="index.jpg"/>
          <p:cNvPicPr/>
          <p:nvPr/>
        </p:nvPicPr>
        <p:blipFill>
          <a:blip r:embed="rId4"/>
          <a:stretch/>
        </p:blipFill>
        <p:spPr>
          <a:xfrm>
            <a:off x="5248440" y="2060640"/>
            <a:ext cx="3895560" cy="25923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5292720" y="2133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ол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Хищные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4296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 и вод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ючицы отсутствую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разные: резцы, клыки, коренные, хищн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имеет много извилин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слепые и гол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0" name="Рисунок 3" descr="a699dc3fbe3bf8688b00378ab5fd5738.gif"/>
          <p:cNvPicPr/>
          <p:nvPr/>
        </p:nvPicPr>
        <p:blipFill>
          <a:blip r:embed="rId1"/>
          <a:stretch/>
        </p:blipFill>
        <p:spPr>
          <a:xfrm>
            <a:off x="7286760" y="214200"/>
            <a:ext cx="1357200" cy="11304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index.jpg"/>
          <p:cNvPicPr/>
          <p:nvPr/>
        </p:nvPicPr>
        <p:blipFill>
          <a:blip r:embed="rId2"/>
          <a:stretch/>
        </p:blipFill>
        <p:spPr>
          <a:xfrm>
            <a:off x="6429240" y="4786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5" descr="index.jpg"/>
          <p:cNvPicPr/>
          <p:nvPr/>
        </p:nvPicPr>
        <p:blipFill>
          <a:blip r:embed="rId3"/>
          <a:stretch/>
        </p:blipFill>
        <p:spPr>
          <a:xfrm>
            <a:off x="285840" y="48578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6" descr="index.jpg"/>
          <p:cNvPicPr/>
          <p:nvPr/>
        </p:nvPicPr>
        <p:blipFill>
          <a:blip r:embed="rId4"/>
          <a:stretch/>
        </p:blipFill>
        <p:spPr>
          <a:xfrm>
            <a:off x="3214800" y="485784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Волч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56760" y="1143000"/>
            <a:ext cx="54291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дли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лго преследуют добыч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и уши остр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вост пушист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ти тупые, не втягивают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6" name="Рисунок 3" descr="d40371fc3fce76d21d2aaa6e92f6ef0d.gif"/>
          <p:cNvPicPr/>
          <p:nvPr/>
        </p:nvPicPr>
        <p:blipFill>
          <a:blip r:embed="rId1"/>
          <a:stretch/>
        </p:blipFill>
        <p:spPr>
          <a:xfrm>
            <a:off x="6929280" y="214200"/>
            <a:ext cx="2095560" cy="9525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index.jpg"/>
          <p:cNvPicPr/>
          <p:nvPr/>
        </p:nvPicPr>
        <p:blipFill>
          <a:blip r:embed="rId2"/>
          <a:stretch/>
        </p:blipFill>
        <p:spPr>
          <a:xfrm>
            <a:off x="0" y="3960720"/>
            <a:ext cx="2916360" cy="28972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images.jpg"/>
          <p:cNvPicPr/>
          <p:nvPr/>
        </p:nvPicPr>
        <p:blipFill>
          <a:blip r:embed="rId3"/>
          <a:stretch/>
        </p:blipFill>
        <p:spPr>
          <a:xfrm>
            <a:off x="2843280" y="4005360"/>
            <a:ext cx="3457440" cy="28526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images.jpg"/>
          <p:cNvPicPr/>
          <p:nvPr/>
        </p:nvPicPr>
        <p:blipFill>
          <a:blip r:embed="rId4"/>
          <a:stretch/>
        </p:blipFill>
        <p:spPr>
          <a:xfrm>
            <a:off x="5715000" y="1214280"/>
            <a:ext cx="3286080" cy="24624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7524720" y="3213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се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63961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ол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Рисунок 10" descr="beagle-slodki-harrier.jpeg"/>
          <p:cNvPicPr/>
          <p:nvPr/>
        </p:nvPicPr>
        <p:blipFill>
          <a:blip r:embed="rId5"/>
          <a:stretch/>
        </p:blipFill>
        <p:spPr>
          <a:xfrm>
            <a:off x="6012000" y="4005360"/>
            <a:ext cx="3132000" cy="2852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1"/>
          <p:cNvSpPr/>
          <p:nvPr/>
        </p:nvSpPr>
        <p:spPr>
          <a:xfrm>
            <a:off x="2843280" y="4005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и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6012000" y="4005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а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Кошач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836640"/>
            <a:ext cx="51436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стройное, гибк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ва округл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ий слу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лапах подушечк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ти острые, втягивают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бычу подстерегаю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7" name="Рисунок 3" descr="e75bb3de4182f6167349a4ddbd27856b.gif"/>
          <p:cNvPicPr/>
          <p:nvPr/>
        </p:nvPicPr>
        <p:blipFill>
          <a:blip r:embed="rId1"/>
          <a:stretch/>
        </p:blipFill>
        <p:spPr>
          <a:xfrm>
            <a:off x="7429680" y="214200"/>
            <a:ext cx="1352520" cy="6476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4" descr="images.jpg"/>
          <p:cNvPicPr/>
          <p:nvPr/>
        </p:nvPicPr>
        <p:blipFill>
          <a:blip r:embed="rId2"/>
          <a:stretch/>
        </p:blipFill>
        <p:spPr>
          <a:xfrm>
            <a:off x="5357880" y="928800"/>
            <a:ext cx="3786120" cy="2714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5" descr="index.jpg"/>
          <p:cNvPicPr/>
          <p:nvPr/>
        </p:nvPicPr>
        <p:blipFill>
          <a:blip r:embed="rId3"/>
          <a:stretch/>
        </p:blipFill>
        <p:spPr>
          <a:xfrm>
            <a:off x="0" y="3933720"/>
            <a:ext cx="3419640" cy="29242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6" descr="images.jpg"/>
          <p:cNvPicPr/>
          <p:nvPr/>
        </p:nvPicPr>
        <p:blipFill>
          <a:blip r:embed="rId4"/>
          <a:stretch/>
        </p:blipFill>
        <p:spPr>
          <a:xfrm>
            <a:off x="5643720" y="3929040"/>
            <a:ext cx="3500280" cy="29289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images.jpg"/>
          <p:cNvPicPr/>
          <p:nvPr/>
        </p:nvPicPr>
        <p:blipFill>
          <a:blip r:embed="rId5"/>
          <a:stretch/>
        </p:blipFill>
        <p:spPr>
          <a:xfrm>
            <a:off x="3419640" y="3933720"/>
            <a:ext cx="2247840" cy="29242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8"/>
          <p:cNvSpPr/>
          <p:nvPr/>
        </p:nvSpPr>
        <p:spPr>
          <a:xfrm>
            <a:off x="5364000" y="907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иг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1979640" y="4005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3419640" y="39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ыс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5651640" y="3933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ар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Медвеж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14200" y="999720"/>
            <a:ext cx="395784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и тяжел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массив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опоходящ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удлиненн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ва больш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8" name="Рисунок 3" descr="792914d6f68fa4c9fd3c3b05a01b9f61.gif"/>
          <p:cNvPicPr/>
          <p:nvPr/>
        </p:nvPicPr>
        <p:blipFill>
          <a:blip r:embed="rId1"/>
          <a:stretch/>
        </p:blipFill>
        <p:spPr>
          <a:xfrm>
            <a:off x="7572240" y="142920"/>
            <a:ext cx="1390680" cy="12571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4" descr="images.jpg"/>
          <p:cNvPicPr/>
          <p:nvPr/>
        </p:nvPicPr>
        <p:blipFill>
          <a:blip r:embed="rId2"/>
          <a:stretch/>
        </p:blipFill>
        <p:spPr>
          <a:xfrm>
            <a:off x="4143240" y="928800"/>
            <a:ext cx="2643480" cy="35002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images.jpg"/>
          <p:cNvPicPr/>
          <p:nvPr/>
        </p:nvPicPr>
        <p:blipFill>
          <a:blip r:embed="rId3"/>
          <a:stretch/>
        </p:blipFill>
        <p:spPr>
          <a:xfrm>
            <a:off x="0" y="3857760"/>
            <a:ext cx="4183200" cy="30002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index.jpg"/>
          <p:cNvPicPr/>
          <p:nvPr/>
        </p:nvPicPr>
        <p:blipFill>
          <a:blip r:embed="rId4"/>
          <a:stretch/>
        </p:blipFill>
        <p:spPr>
          <a:xfrm>
            <a:off x="5605560" y="4206960"/>
            <a:ext cx="3538440" cy="265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Кун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28400" y="1143000"/>
            <a:ext cx="4600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л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удлинен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ща грызуны и птиц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ют ценный ме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4" name="Рисунок 3" descr="058710da06a7592109a52f6979aa65c2.gif"/>
          <p:cNvPicPr/>
          <p:nvPr/>
        </p:nvPicPr>
        <p:blipFill>
          <a:blip r:embed="rId1"/>
          <a:stretch/>
        </p:blipFill>
        <p:spPr>
          <a:xfrm>
            <a:off x="7000920" y="428760"/>
            <a:ext cx="1971720" cy="4665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images.jpg"/>
          <p:cNvPicPr/>
          <p:nvPr/>
        </p:nvPicPr>
        <p:blipFill>
          <a:blip r:embed="rId2"/>
          <a:stretch/>
        </p:blipFill>
        <p:spPr>
          <a:xfrm>
            <a:off x="5214960" y="1143000"/>
            <a:ext cx="3571920" cy="24890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images.jpg"/>
          <p:cNvPicPr/>
          <p:nvPr/>
        </p:nvPicPr>
        <p:blipFill>
          <a:blip r:embed="rId3"/>
          <a:stretch/>
        </p:blipFill>
        <p:spPr>
          <a:xfrm>
            <a:off x="2928960" y="3857760"/>
            <a:ext cx="3259080" cy="23572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7" descr="images.jpg"/>
          <p:cNvPicPr/>
          <p:nvPr/>
        </p:nvPicPr>
        <p:blipFill>
          <a:blip r:embed="rId4"/>
          <a:stretch/>
        </p:blipFill>
        <p:spPr>
          <a:xfrm>
            <a:off x="0" y="3857760"/>
            <a:ext cx="2928960" cy="24289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9" descr="index.jpg"/>
          <p:cNvPicPr/>
          <p:nvPr/>
        </p:nvPicPr>
        <p:blipFill>
          <a:blip r:embed="rId5"/>
          <a:stretch/>
        </p:blipFill>
        <p:spPr>
          <a:xfrm>
            <a:off x="6143760" y="3857760"/>
            <a:ext cx="3000240" cy="23857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8"/>
          <p:cNvSpPr/>
          <p:nvPr/>
        </p:nvSpPr>
        <p:spPr>
          <a:xfrm>
            <a:off x="5715000" y="11430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4356000" y="4149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р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214200" y="39290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6215040" y="39290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а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Ластоноги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28400" y="1143000"/>
            <a:ext cx="87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воде и на суше одновременн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ерсть редкая, груб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удлиненное и обтекаем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превратились в ласт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ется жир для защиты от холода, дает запас, повышает плотность тел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сушу выходят для размножения, линьки и отдых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с густым мех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 размножении ведут стадны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Рисунок 3" descr="b07ec85a9da69db2e4eb0f44f143eba3.gif"/>
          <p:cNvPicPr/>
          <p:nvPr/>
        </p:nvPicPr>
        <p:blipFill>
          <a:blip r:embed="rId1"/>
          <a:stretch/>
        </p:blipFill>
        <p:spPr>
          <a:xfrm>
            <a:off x="7215120" y="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images.jpg"/>
          <p:cNvPicPr/>
          <p:nvPr/>
        </p:nvPicPr>
        <p:blipFill>
          <a:blip r:embed="rId2"/>
          <a:stretch/>
        </p:blipFill>
        <p:spPr>
          <a:xfrm>
            <a:off x="6227640" y="1658880"/>
            <a:ext cx="2916360" cy="213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Ластоноги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8" name="Содержимое 5" descr="morg_01.jpg"/>
          <p:cNvPicPr/>
          <p:nvPr/>
        </p:nvPicPr>
        <p:blipFill>
          <a:blip r:embed="rId1"/>
          <a:stretch/>
        </p:blipFill>
        <p:spPr>
          <a:xfrm>
            <a:off x="142920" y="928800"/>
            <a:ext cx="4300560" cy="29289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8" descr="1210592606_morskie-kotiki_8194_s__1.jpg"/>
          <p:cNvPicPr/>
          <p:nvPr/>
        </p:nvPicPr>
        <p:blipFill>
          <a:blip r:embed="rId2"/>
          <a:stretch/>
        </p:blipFill>
        <p:spPr>
          <a:xfrm>
            <a:off x="0" y="3905280"/>
            <a:ext cx="4286160" cy="29527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9" descr="images.jpg"/>
          <p:cNvPicPr/>
          <p:nvPr/>
        </p:nvPicPr>
        <p:blipFill>
          <a:blip r:embed="rId3"/>
          <a:stretch/>
        </p:blipFill>
        <p:spPr>
          <a:xfrm>
            <a:off x="4643280" y="3929040"/>
            <a:ext cx="4357800" cy="29289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0" descr="index.jpg"/>
          <p:cNvPicPr/>
          <p:nvPr/>
        </p:nvPicPr>
        <p:blipFill>
          <a:blip r:embed="rId4"/>
          <a:stretch/>
        </p:blipFill>
        <p:spPr>
          <a:xfrm>
            <a:off x="4714920" y="857160"/>
            <a:ext cx="4214880" cy="29941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214200" y="1000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р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4714920" y="32148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юл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2500200" y="40719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ские ко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ервозвер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2960" y="1285560"/>
            <a:ext cx="77724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Австрали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Есть вороньи кости, клоак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тела колеблется 24-3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кладывают яйц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2" name="Рисунок 3" descr="index.jpg"/>
          <p:cNvPicPr/>
          <p:nvPr/>
        </p:nvPicPr>
        <p:blipFill>
          <a:blip r:embed="rId1"/>
          <a:stretch/>
        </p:blipFill>
        <p:spPr>
          <a:xfrm>
            <a:off x="1571760" y="3591000"/>
            <a:ext cx="5357520" cy="3267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1de658c82606f42751f1f255643eb47a.gif"/>
          <p:cNvPicPr/>
          <p:nvPr/>
        </p:nvPicPr>
        <p:blipFill>
          <a:blip r:embed="rId2"/>
          <a:stretch/>
        </p:blipFill>
        <p:spPr>
          <a:xfrm>
            <a:off x="7093080" y="1268280"/>
            <a:ext cx="1641240" cy="93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Китообраз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42560" y="1214280"/>
            <a:ext cx="828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только в морях и океана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торпедообраз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жа гол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дние конечности превратились в ласт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дних конечностей не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зовые кости в виде остатко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хвостовой плавник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ячими, сформированны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7" name="Рисунок 3" descr="61beca4dcfc7a8618bc8c015f6607267.gif"/>
          <p:cNvPicPr/>
          <p:nvPr/>
        </p:nvPicPr>
        <p:blipFill>
          <a:blip r:embed="rId1"/>
          <a:stretch/>
        </p:blipFill>
        <p:spPr>
          <a:xfrm>
            <a:off x="7286760" y="142920"/>
            <a:ext cx="1600200" cy="10000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7" descr="images.jpg"/>
          <p:cNvPicPr/>
          <p:nvPr/>
        </p:nvPicPr>
        <p:blipFill>
          <a:blip r:embed="rId2"/>
          <a:stretch/>
        </p:blipFill>
        <p:spPr>
          <a:xfrm>
            <a:off x="5429160" y="4214880"/>
            <a:ext cx="3714840" cy="26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Китообраз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0" name="Содержимое 3" descr="index.jpg"/>
          <p:cNvPicPr/>
          <p:nvPr/>
        </p:nvPicPr>
        <p:blipFill>
          <a:blip r:embed="rId1"/>
          <a:stretch/>
        </p:blipFill>
        <p:spPr>
          <a:xfrm>
            <a:off x="0" y="1214280"/>
            <a:ext cx="4317840" cy="27864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images.jpg"/>
          <p:cNvPicPr/>
          <p:nvPr/>
        </p:nvPicPr>
        <p:blipFill>
          <a:blip r:embed="rId2"/>
          <a:stretch/>
        </p:blipFill>
        <p:spPr>
          <a:xfrm>
            <a:off x="0" y="4143240"/>
            <a:ext cx="4357800" cy="27147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5" descr="delfin.jpg"/>
          <p:cNvPicPr/>
          <p:nvPr/>
        </p:nvPicPr>
        <p:blipFill>
          <a:blip r:embed="rId3"/>
          <a:stretch/>
        </p:blipFill>
        <p:spPr>
          <a:xfrm>
            <a:off x="4357800" y="1143000"/>
            <a:ext cx="4643280" cy="27860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f_17410741.jpg"/>
          <p:cNvPicPr/>
          <p:nvPr/>
        </p:nvPicPr>
        <p:blipFill>
          <a:blip r:embed="rId4"/>
          <a:stretch/>
        </p:blipFill>
        <p:spPr>
          <a:xfrm>
            <a:off x="4500720" y="4000680"/>
            <a:ext cx="4500360" cy="28573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7"/>
          <p:cNvSpPr/>
          <p:nvPr/>
        </p:nvSpPr>
        <p:spPr>
          <a:xfrm>
            <a:off x="214200" y="14288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иний к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4714920" y="1214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ельф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357120" y="63579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ашал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6572160" y="41432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са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арнокопы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2142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и мел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льцев четное число 2/4, из них 2 в копы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некоторых рог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Жвач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сложный желудок (рубец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етка, книжка, сычуг); зубы резцы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коренные с широко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верхност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жвачные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удок простой, зубы резцы, клыки, коре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0" name="Рисунок 3" descr="dbe856b67c89a5348218ac84a657dccd.gif"/>
          <p:cNvPicPr/>
          <p:nvPr/>
        </p:nvPicPr>
        <p:blipFill>
          <a:blip r:embed="rId1"/>
          <a:stretch/>
        </p:blipFill>
        <p:spPr>
          <a:xfrm>
            <a:off x="7286760" y="285840"/>
            <a:ext cx="160956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" descr="images.jpg"/>
          <p:cNvPicPr/>
          <p:nvPr/>
        </p:nvPicPr>
        <p:blipFill>
          <a:blip r:embed="rId2"/>
          <a:stretch/>
        </p:blipFill>
        <p:spPr>
          <a:xfrm>
            <a:off x="6715080" y="3143160"/>
            <a:ext cx="2428920" cy="220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Парнокопыт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3" name="Рисунок 4" descr="index.jpg"/>
          <p:cNvPicPr/>
          <p:nvPr/>
        </p:nvPicPr>
        <p:blipFill>
          <a:blip r:embed="rId1"/>
          <a:stretch/>
        </p:blipFill>
        <p:spPr>
          <a:xfrm>
            <a:off x="4714920" y="857160"/>
            <a:ext cx="4286160" cy="30114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5" descr="images.jpg"/>
          <p:cNvPicPr/>
          <p:nvPr/>
        </p:nvPicPr>
        <p:blipFill>
          <a:blip r:embed="rId2"/>
          <a:stretch/>
        </p:blipFill>
        <p:spPr>
          <a:xfrm>
            <a:off x="0" y="4087800"/>
            <a:ext cx="4427640" cy="27702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6" descr="images.jpg"/>
          <p:cNvPicPr/>
          <p:nvPr/>
        </p:nvPicPr>
        <p:blipFill>
          <a:blip r:embed="rId3"/>
          <a:stretch/>
        </p:blipFill>
        <p:spPr>
          <a:xfrm>
            <a:off x="4714920" y="3968640"/>
            <a:ext cx="4429080" cy="2889360"/>
          </a:xfrm>
          <a:prstGeom prst="rect">
            <a:avLst/>
          </a:prstGeom>
          <a:ln w="0">
            <a:noFill/>
          </a:ln>
        </p:spPr>
      </p:pic>
      <p:pic>
        <p:nvPicPr>
          <p:cNvPr id="236" name="Содержимое 12" descr="92_70_927051_1187604408.jpg"/>
          <p:cNvPicPr/>
          <p:nvPr/>
        </p:nvPicPr>
        <p:blipFill>
          <a:blip r:embed="rId4"/>
          <a:stretch/>
        </p:blipFill>
        <p:spPr>
          <a:xfrm>
            <a:off x="0" y="836640"/>
            <a:ext cx="4427640" cy="3213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7" descr="index.jpg"/>
          <p:cNvPicPr/>
          <p:nvPr/>
        </p:nvPicPr>
        <p:blipFill>
          <a:blip r:embed="rId5"/>
          <a:stretch/>
        </p:blipFill>
        <p:spPr>
          <a:xfrm>
            <a:off x="2050920" y="1557360"/>
            <a:ext cx="5214960" cy="417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Непарнокопы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071360"/>
            <a:ext cx="77868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льцев нечетное число 1/3, 1 в копы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резцы, клыки и коре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удок однокамерн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Рисунок 3" descr="9f51342b1501283793f8775a0515252d.gif"/>
          <p:cNvPicPr/>
          <p:nvPr/>
        </p:nvPicPr>
        <p:blipFill>
          <a:blip r:embed="rId1"/>
          <a:stretch/>
        </p:blipFill>
        <p:spPr>
          <a:xfrm>
            <a:off x="7643880" y="428760"/>
            <a:ext cx="1395360" cy="6858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images.jpg"/>
          <p:cNvPicPr/>
          <p:nvPr/>
        </p:nvPicPr>
        <p:blipFill>
          <a:blip r:embed="rId2"/>
          <a:stretch/>
        </p:blipFill>
        <p:spPr>
          <a:xfrm>
            <a:off x="5857920" y="2071800"/>
            <a:ext cx="3282840" cy="22222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5" descr="index.jpg"/>
          <p:cNvPicPr/>
          <p:nvPr/>
        </p:nvPicPr>
        <p:blipFill>
          <a:blip r:embed="rId3"/>
          <a:stretch/>
        </p:blipFill>
        <p:spPr>
          <a:xfrm>
            <a:off x="0" y="3214800"/>
            <a:ext cx="3197160" cy="24289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6" descr="index.jpg"/>
          <p:cNvPicPr/>
          <p:nvPr/>
        </p:nvPicPr>
        <p:blipFill>
          <a:blip r:embed="rId4"/>
          <a:stretch/>
        </p:blipFill>
        <p:spPr>
          <a:xfrm>
            <a:off x="2857680" y="4357800"/>
            <a:ext cx="3109680" cy="25002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images.jpg"/>
          <p:cNvPicPr/>
          <p:nvPr/>
        </p:nvPicPr>
        <p:blipFill>
          <a:blip r:embed="rId5"/>
          <a:stretch/>
        </p:blipFill>
        <p:spPr>
          <a:xfrm>
            <a:off x="6000840" y="4429080"/>
            <a:ext cx="310680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Хобо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бот – верхняя губа, сросшаяся с нос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вни – это видоизмененные резц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ыков нет, есть 4 коренных зуб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7" name="Рисунок 3" descr="14e5bf1b762ea70b81b966c6cb4f715b.gif"/>
          <p:cNvPicPr/>
          <p:nvPr/>
        </p:nvPicPr>
        <p:blipFill>
          <a:blip r:embed="rId1"/>
          <a:stretch/>
        </p:blipFill>
        <p:spPr>
          <a:xfrm>
            <a:off x="7429680" y="0"/>
            <a:ext cx="1512720" cy="12398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" descr="an_slon.jpg"/>
          <p:cNvPicPr/>
          <p:nvPr/>
        </p:nvPicPr>
        <p:blipFill>
          <a:blip r:embed="rId2"/>
          <a:stretch/>
        </p:blipFill>
        <p:spPr>
          <a:xfrm>
            <a:off x="0" y="3214800"/>
            <a:ext cx="3106800" cy="29289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5" descr="275px-Loxodontacyclotis.jpg"/>
          <p:cNvPicPr/>
          <p:nvPr/>
        </p:nvPicPr>
        <p:blipFill>
          <a:blip r:embed="rId3"/>
          <a:stretch/>
        </p:blipFill>
        <p:spPr>
          <a:xfrm>
            <a:off x="5429160" y="3214800"/>
            <a:ext cx="3571920" cy="23763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6" descr="265px-200407_Elephant_9.JPG"/>
          <p:cNvPicPr/>
          <p:nvPr/>
        </p:nvPicPr>
        <p:blipFill>
          <a:blip r:embed="rId4"/>
          <a:stretch/>
        </p:blipFill>
        <p:spPr>
          <a:xfrm>
            <a:off x="2500200" y="4357800"/>
            <a:ext cx="3329280" cy="25002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0" y="3214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фрикански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2500200" y="639612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зиатски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5500800" y="3214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сно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риматы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нокулярное зре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овой отдел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репа преобладае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имеет много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вил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конечностях ног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дут стадный образ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6" name="Рисунок 3" descr="56daf3d4e56ac1dd23ba316a81fd5744.gif"/>
          <p:cNvPicPr/>
          <p:nvPr/>
        </p:nvPicPr>
        <p:blipFill>
          <a:blip r:embed="rId1"/>
          <a:stretch/>
        </p:blipFill>
        <p:spPr>
          <a:xfrm>
            <a:off x="7786800" y="244440"/>
            <a:ext cx="928440" cy="14558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primates2.jpg"/>
          <p:cNvPicPr/>
          <p:nvPr/>
        </p:nvPicPr>
        <p:blipFill>
          <a:blip r:embed="rId2"/>
          <a:stretch/>
        </p:blipFill>
        <p:spPr>
          <a:xfrm>
            <a:off x="4305240" y="2000160"/>
            <a:ext cx="4838760" cy="485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Мартышков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 и деревья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таются растени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защечные мешк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0" name="Рисунок 3" descr="275px-Chlorocebus_sabaeus_0024.jpg"/>
          <p:cNvPicPr/>
          <p:nvPr/>
        </p:nvPicPr>
        <p:blipFill>
          <a:blip r:embed="rId1"/>
          <a:stretch/>
        </p:blipFill>
        <p:spPr>
          <a:xfrm>
            <a:off x="5500800" y="928800"/>
            <a:ext cx="3492360" cy="26161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5786280" y="392904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леная март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Рисунок 7" descr="275px-Papio_hamadryas_-_02.jpg"/>
          <p:cNvPicPr/>
          <p:nvPr/>
        </p:nvPicPr>
        <p:blipFill>
          <a:blip r:embed="rId2"/>
          <a:stretch/>
        </p:blipFill>
        <p:spPr>
          <a:xfrm>
            <a:off x="3708360" y="3639960"/>
            <a:ext cx="2143080" cy="32180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8"/>
          <p:cNvSpPr/>
          <p:nvPr/>
        </p:nvSpPr>
        <p:spPr>
          <a:xfrm>
            <a:off x="3786120" y="62866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Гамадр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Рисунок 9" descr="275px-Proboscis_Monkey.jpg"/>
          <p:cNvPicPr/>
          <p:nvPr/>
        </p:nvPicPr>
        <p:blipFill>
          <a:blip r:embed="rId3"/>
          <a:stretch/>
        </p:blipFill>
        <p:spPr>
          <a:xfrm>
            <a:off x="5715000" y="3929040"/>
            <a:ext cx="3286080" cy="26049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0"/>
          <p:cNvSpPr/>
          <p:nvPr/>
        </p:nvSpPr>
        <p:spPr>
          <a:xfrm>
            <a:off x="6286680" y="607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с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5572080" y="30002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леная март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Рисунок 12" descr="makaki1.jpg"/>
          <p:cNvPicPr/>
          <p:nvPr/>
        </p:nvPicPr>
        <p:blipFill>
          <a:blip r:embed="rId4"/>
          <a:stretch/>
        </p:blipFill>
        <p:spPr>
          <a:xfrm>
            <a:off x="0" y="2637000"/>
            <a:ext cx="3780000" cy="27367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6"/>
          <p:cNvSpPr/>
          <p:nvPr/>
        </p:nvSpPr>
        <p:spPr>
          <a:xfrm>
            <a:off x="0" y="4869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Японские мака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Человекообразных обезьян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14200" y="1214280"/>
            <a:ext cx="4500720" cy="26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е лиц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большие уш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тягивающиеся губ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а мими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ьзуются оруди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1" name="Рисунок 3" descr="index.jpg"/>
          <p:cNvPicPr/>
          <p:nvPr/>
        </p:nvPicPr>
        <p:blipFill>
          <a:blip r:embed="rId1"/>
          <a:stretch/>
        </p:blipFill>
        <p:spPr>
          <a:xfrm>
            <a:off x="4786200" y="1357200"/>
            <a:ext cx="4186440" cy="27860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index.jpg"/>
          <p:cNvPicPr/>
          <p:nvPr/>
        </p:nvPicPr>
        <p:blipFill>
          <a:blip r:embed="rId2"/>
          <a:stretch/>
        </p:blipFill>
        <p:spPr>
          <a:xfrm>
            <a:off x="500040" y="3786120"/>
            <a:ext cx="3000240" cy="307188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5" descr="images.jpg"/>
          <p:cNvPicPr/>
          <p:nvPr/>
        </p:nvPicPr>
        <p:blipFill>
          <a:blip r:embed="rId3"/>
          <a:stretch/>
        </p:blipFill>
        <p:spPr>
          <a:xfrm>
            <a:off x="4143240" y="4000680"/>
            <a:ext cx="3357720" cy="268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Garamond"/>
              </a:rPr>
              <a:t>Домашнее задани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Подготовиться к контрольной работе по темам «Птицы» и «Млекопитающие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По желанию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кроссворд с оформлением, презентации по темам: «рекорды в мире млекопитающих» , «Необычные Звери», «Млекопитающие Красной Книги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6" name="Рисунок 3" descr="5e4da78a599e4848adb5822c215ac63f.gif"/>
          <p:cNvPicPr/>
          <p:nvPr/>
        </p:nvPicPr>
        <p:blipFill>
          <a:blip r:embed="rId1"/>
          <a:stretch/>
        </p:blipFill>
        <p:spPr>
          <a:xfrm>
            <a:off x="7429680" y="714240"/>
            <a:ext cx="1312560" cy="100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Утконос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356840"/>
            <a:ext cx="52862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стообитания: вода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ет норы в земл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тела около 60 с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 густой, коротк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с -  роговой клю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 с перепонко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вост уплоще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кладывает 2 яйц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6" name="Рисунок 3" descr="71628458_most_unusual_mammal_1.jpg"/>
          <p:cNvPicPr/>
          <p:nvPr/>
        </p:nvPicPr>
        <p:blipFill>
          <a:blip r:embed="rId1"/>
          <a:stretch/>
        </p:blipFill>
        <p:spPr>
          <a:xfrm>
            <a:off x="4500720" y="928800"/>
            <a:ext cx="4643280" cy="3038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images.jpg"/>
          <p:cNvPicPr/>
          <p:nvPr/>
        </p:nvPicPr>
        <p:blipFill>
          <a:blip r:embed="rId2"/>
          <a:stretch/>
        </p:blipFill>
        <p:spPr>
          <a:xfrm>
            <a:off x="5214960" y="4219560"/>
            <a:ext cx="3929040" cy="263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Спасибо за внимание!</a:t>
            </a:r>
            <a:endParaRPr b="1" i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8" name="Рисунок 2" descr="3f776e11cb41d23b3f420e40763fb9e7.gif"/>
          <p:cNvPicPr/>
          <p:nvPr/>
        </p:nvPicPr>
        <p:blipFill>
          <a:blip r:embed="rId1"/>
          <a:stretch/>
        </p:blipFill>
        <p:spPr>
          <a:xfrm>
            <a:off x="6357960" y="642960"/>
            <a:ext cx="2143080" cy="16873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3" descr="60fc440029f6c4d702ec231ca2de48e7.gif"/>
          <p:cNvPicPr/>
          <p:nvPr/>
        </p:nvPicPr>
        <p:blipFill>
          <a:blip r:embed="rId2"/>
          <a:stretch/>
        </p:blipFill>
        <p:spPr>
          <a:xfrm>
            <a:off x="1000080" y="714240"/>
            <a:ext cx="1643040" cy="151776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4" descr="b0c8cb42c960b5d28b53e0b65635d35c.gif"/>
          <p:cNvPicPr/>
          <p:nvPr/>
        </p:nvPicPr>
        <p:blipFill>
          <a:blip r:embed="rId3"/>
          <a:stretch/>
        </p:blipFill>
        <p:spPr>
          <a:xfrm>
            <a:off x="4000680" y="714240"/>
            <a:ext cx="1447560" cy="18702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5" descr="26077df12484b96d8f8645d6b1e5a266.gif"/>
          <p:cNvPicPr/>
          <p:nvPr/>
        </p:nvPicPr>
        <p:blipFill>
          <a:blip r:embed="rId4"/>
          <a:stretch/>
        </p:blipFill>
        <p:spPr>
          <a:xfrm>
            <a:off x="1071720" y="4133880"/>
            <a:ext cx="1785960" cy="201924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7" descr="7500d36fa98c374d53d47d9a0e4e878e.gif"/>
          <p:cNvPicPr/>
          <p:nvPr/>
        </p:nvPicPr>
        <p:blipFill>
          <a:blip r:embed="rId5"/>
          <a:stretch/>
        </p:blipFill>
        <p:spPr>
          <a:xfrm>
            <a:off x="6286680" y="4572000"/>
            <a:ext cx="1904760" cy="1095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8" descr="0123f44c00113262fa5c60a56780f656.gif"/>
          <p:cNvPicPr/>
          <p:nvPr/>
        </p:nvPicPr>
        <p:blipFill>
          <a:blip r:embed="rId6"/>
          <a:stretch/>
        </p:blipFill>
        <p:spPr>
          <a:xfrm>
            <a:off x="3786120" y="39290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сылк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549000"/>
            <a:ext cx="91440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1.М.А. Козлов. Учебник для 7-8 классов общеобразовательных учреждений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.: Просвещение,199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2. А.И.Никишов, И.Х.Шарова Биология. Животные. 7-8 класс для общеобразовательных учреждений. М.: Просвещение , 200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.Б.Захаров, Н.И.Сонин: Биология. Многообразие живых организмов. 7 класс: учебник для общеобразовательных учреждений. М.: Дрофа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4. Кумченко В.С. , Сухорукова Л.Н. Биология. Разнообразие живых организмов. 7 класс. Учебник для общеобразовательных учреждений. М.: Просвещение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Картинки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бры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zooschool.ru/attach/img/1088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www.smachno.ua/img/forall/a/126/6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епард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namonitore.ru/uploads/catalog/dikie/gepard_2_128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ираф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img0.liveinternet.ru/images/attach/c/2//69/270/69270037_2043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altay-hunting.com/files/upload/%D0%B7%D0%B0%D1%8F%D1%8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zooh.narod.ru/_chimpanzee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и ехидн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files.school-collection.edu.ru/dlrstore/b5fba512-f820-4ee9-b488-a65a94ca9cfa/%5BBI7ZD_13-05%5D_%5BIL_02%5D-k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vse-pro-vseh.info/uploads/thumbnails/201212/p17fo1s8k7ojnu3li2s2lps841_100x10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900igr.net/datai/o-zhivotnykh/Avstralija-2.files/0010-015-Utkono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dl.ziza.es/upload//image/102012/25/animales_raros_alcyon/animales_raros%20%2833%2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dic.academic.ru/pictures/enc_biology/animals/ris._6_1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3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uwd.ru/uploads/posts/2012-11/1352012724_mimimi_dna_0_0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тряд сумчаты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animalworld.com.ua/images/2009/October_09/Animal/Marsupiala/Marsupiala_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асманский дьявол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www.vokrugsveta.ru/img/ann/news/main//2011/06/28/1236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теныш кенгуру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lolanimals.ru/wp-content/gallery/kengaroo/kangaroo_in_pouch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асекомоядны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rudocs.exdat.com/pars_docs/tw_refs/284/283532/283532_html_m394f342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ж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upload.wikimedia.org/wikipedia/commons/thumb/7/74/Erinaceus_europaeus.jpg/800px-Erinaceus_europaeu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ыхухол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animalbox.ru/wp-content/uploads/2011/02/vyhuhol2-300x21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млерой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animalworld.com.ua/images/2009/upload/zemler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р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mlekopitajuschie.ru/images/2012-02-17/krot_2.jpg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proxy11.media.online.ua/uol/r3-280c953f56/4f1d290b1a45c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шан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dic.academic.ru/pictures/wiki/files/49/100px-Plecotus_auritus_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ыжая вечерниц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infa.ws/animal/images/247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чница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zoogeo365.ru/images/public/20101122/nochnica_brandta_big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лисиц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kuky.net/wp-content/uploads/2009/08/flying-fox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Хомя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img11.nnm.ru/0/7/5/9/7/66b925e322d26c1f6a552b01f4c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урунду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upload.wikimedia.org/wikipedia/commons/thumb/a/a8/Streifenhoernchen.jpg/275px-Streifenhoernchen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сн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upload.wikimedia.org/wikipedia/commons/thumb/b/bd/Apodemus_sylvaticus_bosmuis.jpg/265px-Apodemus_sylvaticus_bosmui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ндатр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animals-wild.ru/uploads/1299758699_1227745848_3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обр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www.plants-and-animals.ru/images/photoalbum/album_6/bober_t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sobiratelzvezd.ru/wallpapers/wikimedia_23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img-fotki.yandex.ru/get/3105/savinovserega.16/0_1da73_e33c2083_L.jpe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роли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animalsglobe.ru/wp-content/uploads/2011/09/%D0%BA%D1%80%D0%BE%D0%BB%D0%B8%D0%B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ищуха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upload.wikimedia.org/wikipedia/commons/thumb/3/3b/Ochotona_princeps.jpg/275px-Ochotona_princep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иса 1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ectorplus.ru/wp-content/uploads/2012/03/lisa1-300x22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едведь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www.walland.ru/fotos/1270250139_2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антер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animalsglobe.ru/wp-content/uploads/2011/09/d0bfd0b0d0bdd182d0b5d180d0b0-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есец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www.artzveri.ru/jivitniy_mir095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img3.nnm.ru/d/d/7/a/d/dd7ad41613bee8b945f98b1351341e60_full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ис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3.bp.blogspot.com/-7GzfkHgHKFo/T2m-QeNYpdI/AAAAAAAAEyk/t4vk4AtTIeI/s1600/%D0%BB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оба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www.zdjecia.biz.pl/zdjecia/duze/beagle-slodki-harrier.jpe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игр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zateevo.ru/userfiles/image/Zveri_Dikie/Tigr/tigr_dikii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в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4.bp.blogspot.com/-eubZ7gLdGrY/T6vnqbW-xWI/AAAAAAAAFqA/223fZ4ntpd0/s1600/%D0%BB%D0%B5%D0%B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ыс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6/68/Lynx_lynx_poing.jpg/275px-Lynx_lynx_poing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арс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hakasiya.rgo.ru/files/2010/09/bars-300x225.jpg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урый медведь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upload.wikimedia.org/wikipedia/commons/thumb/8/82/Medved_mzoo.jpg/220px-Medved_mzoo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ый медве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oboxote.ru/wp-content/uploads/2011/03/05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ималайский медве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www.tigerworld.ru/images/med/med3.jpg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униц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zoofayna.ru/wp-content/uploads/2011/06/kunica_lesnay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обол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all-about-pets.ru/uploads/posts/1305878419_bolshaya.p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р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vikipendia.ru/wp-content/uploads/2013/02/Udivitelnoe-chudo-prirody-norka-Chast-1-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ас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upload.wikimedia.org/wikipedia/commons/thumb/e/e3/Mustela_nivalis_-British_Wildlife_Centre-4.jpg/275px-Mustela_nivalis_-British_Wildlife_Centre-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tyulen-foto.narod.ru/tyulen-foto/grenlandskiy-tyulen-foto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2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photo-day.ru/wp-content/uploads/2010/04/ba-APTOPIX_Germa_050143186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ж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aminpro.narod.ru/dopoln/kartinki/dopol/givotnye/morg_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ской котик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doseng.org/uploads/posts/2008-05/1210592606_morskie-kotiki_8194_s__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ской котик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media.tumblr.com/8668480f47978db24b7105c73bc36193/tumblr_inline_mi01amfBIh1qz4rgp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итообразны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ebio.ru/images/0607110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иний ки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mostinfo.su/most/sinij-kit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льфи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flot.com/upload/blog/7cc//2_1_~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шал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animalbox.ru/wp-content/uploads/2012/03/kashalot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сат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daler.ru/pictures/1/1600x1200/Kasatka-352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елудок коров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gusevale1.narod.ru/geludok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с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supple.image.newsru.com/images/big/92_70_927051_1187604408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лен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www.symbolsbook.ru/images/O/Deer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ба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www.dangeranimals.ru/wp-content/uploads/2010/09/%D0%9A%D0%B0%D0%B1%D0%B0%D0%BD-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гем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www.kartinki24.ru/uploads/gallery/main/40/kartinki24ru_begemot_0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ираф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scientificrussia.ru/data/shared/top_10/10_faktov_sbornik/HDpics_ru_d2247368_227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сёл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7/7b/Donkey_1_arp_750px.jpg/275px-Donkey_1_arp_750px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бр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www.zoomagazin.info/images/245953908_818116d6b3.jpg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ша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zoo-farm.ru/wp-content/uploads/2012/07/pokupka-loshadi-kak-ne-oshibitsy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сорог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usiter.com/uploads/20120528/nosorog+5566469528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фрикански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zateevo.ru/userfiles/image/Zveri_Dikie/Slony/Slon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зиатски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upload.wikimedia.org/wikipedia/commons/thumb/9/96/200407_Elephant_9.JPG/265px-200407_Elephant_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сно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upload.wikimedia.org/wikipedia/commons/thumb/f/f3/Loxodontacyclotis.jpg/275px-Loxodontacycloti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римат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cwer.ws/files/u165477/0802/primates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Японские макаки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terramia.ru/wp-content/uploads/2013/01/makaki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леная мартыш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like-zoo.com/data/animals/normal/zm1_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амадрил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dic.academic.ru/pictures/wiki/files/50/275px-Papio_hamadryas_-_0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сач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8/82/Proboscis_Monkey.jpg/275px-Proboscis_Monkey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орилл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upload.wikimedia.org/wikipedia/commons/5/50/Male_gorilla_in_SF_zoo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рангутанг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t3.gstatic.com/images?q=tbn:ANd9GcQM5Y1lgpo0DQnmmDnaFM3kf9R5DNLq9ItrmhVXr9mrhGbxc4jgj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world.fedpress.ru/sites/fedpress/files/didenko/news/shimpanze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нимация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10.rimg.info/1de658c82606f42751f1f255643eb47a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енгуру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s7.rimg.info/f880633ce885ee5037951e532996cb5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жи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s19.rimg.info/7e9b7a8f3211455adefe41b7983f408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10.rimg.info/aabd5b7a70c8aaebd5ee7e2f828c11d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ышь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s17.rimg.info/24ff25697f1000eecaf71d819965bab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s19.rimg.info/208057ff530477dbd79a77cb8af3160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и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s8.rimg.info/a699dc3fbe3bf8688b00378ab5fd5738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s10.rimg.info/d40371fc3fce76d21d2aaa6e92f6ef0d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ьвено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s3.rimg.info/e75bb3de4182f6167349a4ddbd27856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иш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s10.rimg.info/792914d6f68fa4c9fd3c3b05a01b9f61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униц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s10.rimg.info/aac3515762e6fc22f1ceb1fdd2f1a50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s10.rimg.info/b07ec85a9da69db2e4eb0f44f143eba3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сат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10.rimg.info/7b165bdda301ca97337d0df9050ba4c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ара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s3.rimg.info/da32bd4cb19fd46fbe9a39a3bdb63cd0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ша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s19.rimg.info/9f51342b1501283793f8775a0515252d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18.rimg.info/14e5bf1b762ea70b81b966c6cb4f715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безьяна 1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7.rimg.info/c0bddf7a35999e8fee7e580ac99328d6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розовый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8.rimg.info/26077df12484b96d8f8645d6b1e5a266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к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8.rimg.info/60fc440029f6c4d702ec231ca2de48e7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b0c8cb42c960b5d28b53e0b65635d35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3f776e11cb41d23b3f420e40763fb9e7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льфин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16cacc9cd70c7a0cf3310d3c7b82db8f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ышк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9.rimg.info/7500d36fa98c374d53d47d9a0e4e878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ниг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7.rimg.info/5e4da78a599e4848adb5822c215ac63f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Ехидна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00008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ет на земл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тела около 40 с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игл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 жестк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животе сумка-склад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ногах – уплощенные ког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Рисунок 3" descr="podklass-yajjcekladushie-5-1.jpg"/>
          <p:cNvPicPr/>
          <p:nvPr/>
        </p:nvPicPr>
        <p:blipFill>
          <a:blip r:embed="rId1"/>
          <a:stretch/>
        </p:blipFill>
        <p:spPr>
          <a:xfrm>
            <a:off x="5000760" y="1143000"/>
            <a:ext cx="3836880" cy="29289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ris._6_16.jpg"/>
          <p:cNvPicPr/>
          <p:nvPr/>
        </p:nvPicPr>
        <p:blipFill>
          <a:blip r:embed="rId2"/>
          <a:stretch/>
        </p:blipFill>
        <p:spPr>
          <a:xfrm>
            <a:off x="1714680" y="4113360"/>
            <a:ext cx="3000240" cy="27446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1352012724_mimimi_dna_0_001.jpg"/>
          <p:cNvPicPr/>
          <p:nvPr/>
        </p:nvPicPr>
        <p:blipFill>
          <a:blip r:embed="rId3"/>
          <a:stretch/>
        </p:blipFill>
        <p:spPr>
          <a:xfrm>
            <a:off x="5003640" y="4108320"/>
            <a:ext cx="4140360" cy="274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Сумчат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4200" y="121428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Австралии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, развитие в сумке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тела колеблетс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цента не образуется или развита слабо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5" name="Рисунок 4" descr="images.jpg"/>
          <p:cNvPicPr/>
          <p:nvPr/>
        </p:nvPicPr>
        <p:blipFill>
          <a:blip r:embed="rId1"/>
          <a:stretch/>
        </p:blipFill>
        <p:spPr>
          <a:xfrm>
            <a:off x="0" y="3000240"/>
            <a:ext cx="3857760" cy="38577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images.jpg"/>
          <p:cNvPicPr/>
          <p:nvPr/>
        </p:nvPicPr>
        <p:blipFill>
          <a:blip r:embed="rId2"/>
          <a:stretch/>
        </p:blipFill>
        <p:spPr>
          <a:xfrm>
            <a:off x="3419640" y="4564080"/>
            <a:ext cx="2447640" cy="2293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7" descr="kangaroo_in_pouch.jpg"/>
          <p:cNvPicPr/>
          <p:nvPr/>
        </p:nvPicPr>
        <p:blipFill>
          <a:blip r:embed="rId3"/>
          <a:stretch/>
        </p:blipFill>
        <p:spPr>
          <a:xfrm>
            <a:off x="5867280" y="3068640"/>
            <a:ext cx="3276720" cy="31687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f880633ce885ee5037951e532996cb5b.gif"/>
          <p:cNvPicPr/>
          <p:nvPr/>
        </p:nvPicPr>
        <p:blipFill>
          <a:blip r:embed="rId4"/>
          <a:stretch/>
        </p:blipFill>
        <p:spPr>
          <a:xfrm>
            <a:off x="7164360" y="66600"/>
            <a:ext cx="1671840" cy="156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Насекомояд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920" y="121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 или в почв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ктивный и малоактивный ночно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удлиненн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о обоня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мало различи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без извил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ение слаб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1" name="Рисунок 3" descr="7e9b7a8f3211455adefe41b7983f408c.gif"/>
          <p:cNvPicPr/>
          <p:nvPr/>
        </p:nvPicPr>
        <p:blipFill>
          <a:blip r:embed="rId1"/>
          <a:stretch/>
        </p:blipFill>
        <p:spPr>
          <a:xfrm>
            <a:off x="7715160" y="357120"/>
            <a:ext cx="12384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06070701.jpg"/>
          <p:cNvPicPr/>
          <p:nvPr/>
        </p:nvPicPr>
        <p:blipFill>
          <a:blip r:embed="rId2"/>
          <a:stretch/>
        </p:blipFill>
        <p:spPr>
          <a:xfrm>
            <a:off x="5000760" y="2357280"/>
            <a:ext cx="4143240" cy="33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Насекомояд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4" name="Содержимое 3" descr="index.jpg"/>
          <p:cNvPicPr/>
          <p:nvPr/>
        </p:nvPicPr>
        <p:blipFill>
          <a:blip r:embed="rId1"/>
          <a:stretch/>
        </p:blipFill>
        <p:spPr>
          <a:xfrm>
            <a:off x="0" y="1071720"/>
            <a:ext cx="4286160" cy="27860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index.jpg"/>
          <p:cNvPicPr/>
          <p:nvPr/>
        </p:nvPicPr>
        <p:blipFill>
          <a:blip r:embed="rId2"/>
          <a:stretch/>
        </p:blipFill>
        <p:spPr>
          <a:xfrm>
            <a:off x="4572000" y="3929040"/>
            <a:ext cx="4572000" cy="29289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images.jpg"/>
          <p:cNvPicPr/>
          <p:nvPr/>
        </p:nvPicPr>
        <p:blipFill>
          <a:blip r:embed="rId3"/>
          <a:stretch/>
        </p:blipFill>
        <p:spPr>
          <a:xfrm>
            <a:off x="0" y="3952800"/>
            <a:ext cx="4286160" cy="29052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images.jpg"/>
          <p:cNvPicPr/>
          <p:nvPr/>
        </p:nvPicPr>
        <p:blipFill>
          <a:blip r:embed="rId4"/>
          <a:stretch/>
        </p:blipFill>
        <p:spPr>
          <a:xfrm>
            <a:off x="4572000" y="1071720"/>
            <a:ext cx="4572000" cy="2786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0" y="63961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млерой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929120" y="3357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ыхух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0" y="112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ё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7056360" y="63961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р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рукокрыл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1285920"/>
            <a:ext cx="84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 Способны летать. Ведут ночно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лосяной покров хорошо разви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ередней конечности сильно удлиненные пальцы, между которыми кожистая перепон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кил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малоразличи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а эхолокаци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ение плох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4" name="Рисунок 3" descr="aabd5b7a70c8aaebd5ee7e2f828c11dc.gif"/>
          <p:cNvPicPr/>
          <p:nvPr/>
        </p:nvPicPr>
        <p:blipFill>
          <a:blip r:embed="rId1"/>
          <a:stretch/>
        </p:blipFill>
        <p:spPr>
          <a:xfrm>
            <a:off x="7358040" y="5000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265px-Big-eared-townsend-fledermaus.jpg"/>
          <p:cNvPicPr/>
          <p:nvPr/>
        </p:nvPicPr>
        <p:blipFill>
          <a:blip r:embed="rId2"/>
          <a:stretch/>
        </p:blipFill>
        <p:spPr>
          <a:xfrm>
            <a:off x="5357880" y="3714840"/>
            <a:ext cx="3365280" cy="204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Рукокрыл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7" name="Содержимое 3" descr="images.jpg"/>
          <p:cNvPicPr/>
          <p:nvPr/>
        </p:nvPicPr>
        <p:blipFill>
          <a:blip r:embed="rId1"/>
          <a:stretch/>
        </p:blipFill>
        <p:spPr>
          <a:xfrm>
            <a:off x="0" y="1143000"/>
            <a:ext cx="4357800" cy="2781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images.jpg"/>
          <p:cNvPicPr/>
          <p:nvPr/>
        </p:nvPicPr>
        <p:blipFill>
          <a:blip r:embed="rId2"/>
          <a:stretch/>
        </p:blipFill>
        <p:spPr>
          <a:xfrm>
            <a:off x="4643280" y="1143000"/>
            <a:ext cx="450072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images.jpg"/>
          <p:cNvPicPr/>
          <p:nvPr/>
        </p:nvPicPr>
        <p:blipFill>
          <a:blip r:embed="rId3"/>
          <a:stretch/>
        </p:blipFill>
        <p:spPr>
          <a:xfrm>
            <a:off x="0" y="4040280"/>
            <a:ext cx="4286160" cy="28177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6" descr="index.jpg"/>
          <p:cNvPicPr/>
          <p:nvPr/>
        </p:nvPicPr>
        <p:blipFill>
          <a:blip r:embed="rId4"/>
          <a:stretch/>
        </p:blipFill>
        <p:spPr>
          <a:xfrm>
            <a:off x="4643280" y="4000680"/>
            <a:ext cx="4500720" cy="28573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0" y="114300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ш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4714920" y="114300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ыжая вечер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0" y="639612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ч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4643280" y="400536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тучая лис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6:18:34Z</dcterms:created>
  <dc:creator>Алексей</dc:creator>
  <dc:description/>
  <dc:language>en-US</dc:language>
  <cp:lastModifiedBy>Admin</cp:lastModifiedBy>
  <dcterms:modified xsi:type="dcterms:W3CDTF">2013-03-16T19:55:18Z</dcterms:modified>
  <cp:revision>84</cp:revision>
  <dc:subject/>
  <dc:title>Green Swamp</dc:title>
</cp:coreProperties>
</file>